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4BE-4B12-4996-ABD4-69288FD5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49B-D23F-4B08-8544-402F0135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E6B-BEE9-4670-9A29-EC5C059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99E-566F-4C02-A437-7A7C9E76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8E0-F19F-4889-B8BE-1CD3DF18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08C-5640-4B90-8191-A923A699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C95-BE87-425B-99A6-3BC8005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5E9-1B28-4B57-8BC7-E491002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7F8-E1F9-4F7E-886E-73940C6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407-4DE4-437E-A7B9-3F56001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09A-770B-4866-B0C1-778D10D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119-FB72-4DA3-BF4D-64404BA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D026-37ED-45BB-BC20-734D13D7B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pplepiehouse.com/blog/uploaded_images/cinderella-773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15228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had beautiful h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1522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beautiful 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s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Documents and Settings\lsabey\Local Settings\Temporary Internet Files\Content.IE5\XSJY32GK\MCj02323320000[1].wmf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49273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3049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drag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482760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1522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ons were her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5029200" y="1600200"/>
            <a:ext cx="2967120" cy="383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disneydreamer.com/enchanted7.jpg"/>
          <p:cNvPicPr/>
          <p:nvPr/>
        </p:nvPicPr>
        <p:blipFill>
          <a:blip r:embed="rId2"/>
          <a:stretch/>
        </p:blipFill>
        <p:spPr>
          <a:xfrm>
            <a:off x="990720" y="266688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3"/>
          <a:stretch/>
        </p:blipFill>
        <p:spPr>
          <a:xfrm>
            <a:off x="-15228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o s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lsabey\Local Settings\Temporary Internet Files\Content.IE5\FGJUL90C\MPj04392490000[1].jpg"/>
          <p:cNvPicPr/>
          <p:nvPr/>
        </p:nvPicPr>
        <p:blipFill>
          <a:blip r:embed="rId1"/>
          <a:stretch/>
        </p:blipFill>
        <p:spPr>
          <a:xfrm>
            <a:off x="1143000" y="236232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latimesblogs.latimes.com/extendedplay/images/2007/10/31/enchanted_amy_adams_300.jpg"/>
          <p:cNvPicPr/>
          <p:nvPr/>
        </p:nvPicPr>
        <p:blipFill>
          <a:blip r:embed="rId2"/>
          <a:stretch/>
        </p:blipFill>
        <p:spPr>
          <a:xfrm>
            <a:off x="4191120" y="1523880"/>
            <a:ext cx="4076640" cy="407700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295280" y="2133720"/>
            <a:ext cx="6724800" cy="4467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wo men.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could s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blogs.kpbs.org/blogs2/images/uploads/Enchanted-2.jpg"/>
          <p:cNvPicPr/>
          <p:nvPr/>
        </p:nvPicPr>
        <p:blipFill>
          <a:blip r:embed="rId1"/>
          <a:stretch/>
        </p:blipFill>
        <p:spPr>
          <a:xfrm>
            <a:off x="1481040" y="1676520"/>
            <a:ext cx="5796000" cy="38480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-15228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she felt happy wit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ebwombat.com.au/entertainment/movies/images/enchan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473544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-30492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447920" y="1477800"/>
            <a:ext cx="6400800" cy="5123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a problem.  What should sh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15228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fortnet.org/tfc/Pictures/tangoOutline.gif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dan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C:\Documents and Settings\lsabey\Local Settings\Temporary Internet Files\Content.IE5\XSJY32GK\MCj04344110000[1].wmf"/>
          <p:cNvPicPr/>
          <p:nvPr/>
        </p:nvPicPr>
        <p:blipFill>
          <a:blip r:embed="rId1"/>
          <a:stretch/>
        </p:blipFill>
        <p:spPr>
          <a:xfrm>
            <a:off x="2819520" y="1371600"/>
            <a:ext cx="302256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-1522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kellysmusicstudio.com/music-not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z.about.com/d/miniatures/1/0/D/D/-/-/pi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loved p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homepage.mac.com/pianos/piano_images/Grand_Pi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played the p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-1522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nternationalraspberry.org/three-raspberries-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raspber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her p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keetsa.com/blog/wp-content/uploads/2008/11/baby-pig.jpg"/>
          <p:cNvPicPr/>
          <p:nvPr/>
        </p:nvPicPr>
        <p:blipFill>
          <a:blip r:embed="rId1"/>
          <a:stretch/>
        </p:blipFill>
        <p:spPr>
          <a:xfrm>
            <a:off x="2514600" y="2362320"/>
            <a:ext cx="3753000" cy="26762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304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er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MinPinTwiggy1.jpg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05612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all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lsabey\Local Settings\Temporary Internet Files\Content.IE5\XSJY32GK\MCj02003510000[1].wmf"/>
          <p:cNvPicPr/>
          <p:nvPr/>
        </p:nvPicPr>
        <p:blipFill>
          <a:blip r:embed="rId1"/>
          <a:stretch/>
        </p:blipFill>
        <p:spPr>
          <a:xfrm>
            <a:off x="3660840" y="2662200"/>
            <a:ext cx="182232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lsabey\Local Settings\Temporary Internet Files\Content.IE5\XSJY32GK\MCj02003510000[1].wmf"/>
          <p:cNvPicPr/>
          <p:nvPr/>
        </p:nvPicPr>
        <p:blipFill>
          <a:blip r:embed="rId2"/>
          <a:stretch/>
        </p:blipFill>
        <p:spPr>
          <a:xfrm>
            <a:off x="5562720" y="1523880"/>
            <a:ext cx="2450880" cy="206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lsabey\Local Settings\Temporary Internet Files\Content.IE5\XSJY32GK\MCj02003510000[1].wmf"/>
          <p:cNvPicPr/>
          <p:nvPr/>
        </p:nvPicPr>
        <p:blipFill>
          <a:blip r:embed="rId3"/>
          <a:stretch/>
        </p:blipFill>
        <p:spPr>
          <a:xfrm>
            <a:off x="5943600" y="3886200"/>
            <a:ext cx="1822320" cy="153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lsabey\Local Settings\Temporary Internet Files\Content.IE5\FGJUL90C\MCj03438330000[1].wmf"/>
          <p:cNvPicPr/>
          <p:nvPr/>
        </p:nvPicPr>
        <p:blipFill>
          <a:blip r:embed="rId4"/>
          <a:stretch/>
        </p:blipFill>
        <p:spPr>
          <a:xfrm>
            <a:off x="3505320" y="4114800"/>
            <a:ext cx="1725480" cy="138600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:\Documents and Settings\lsabey\Local Settings\Temporary Internet Files\Content.IE5\FGJUL90C\MCj03438330000[1].wmf"/>
          <p:cNvPicPr/>
          <p:nvPr/>
        </p:nvPicPr>
        <p:blipFill>
          <a:blip r:embed="rId5"/>
          <a:stretch/>
        </p:blipFill>
        <p:spPr>
          <a:xfrm>
            <a:off x="1752480" y="4343400"/>
            <a:ext cx="172584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6"/>
          <a:stretch/>
        </p:blipFill>
        <p:spPr>
          <a:xfrm>
            <a:off x="-15228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3:59Z</dcterms:created>
  <dc:creator>itsuser</dc:creator>
  <dc:description/>
  <dc:language>en-US</dc:language>
  <cp:lastModifiedBy>itsuser</cp:lastModifiedBy>
  <dcterms:modified xsi:type="dcterms:W3CDTF">2009-04-02T16:01:12Z</dcterms:modified>
  <cp:revision>9</cp:revision>
  <dc:subject/>
  <dc:title>The Princess</dc:title>
</cp:coreProperties>
</file>